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D91-6857-44C7-B8D5-1EC5F3BE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864-18E0-40D4-93B9-704DA6C9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4CA-64BB-4B9D-95E6-5DC3DCC4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430-D0FE-4009-B578-0CDBC016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3B8A-4574-4CAE-B21C-A0C0FA58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9930-70D7-4394-A408-C0DE2C39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FBF-15F5-4680-93F9-87EDFBD1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3FD-8A1A-43EB-8F61-233CFA88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B0F-E82D-4F74-B1FA-B8CE5C5D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2C58-F0CA-4941-ACB2-1F2E7E62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D2B-3A2F-4D1C-B521-2D7A4E2E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3CF-E7E1-4821-9A0F-53891395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CAE5-C717-43B8-A1E1-40413E658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lencoe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             Clase 8im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3 de dic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20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viste en la tele ay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 los verbos en el Preteri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b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Copia y responde, usa P.O.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Miraste la tele anoc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Tocaste el pia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Escuchaste mus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Estudiaste espan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Usaste tu computado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Enviaste e-mai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icicio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2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Answer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aragraph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lenco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PassCode: ASD4003c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ammar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terito de los verbos –er, –ir e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20:11:34Z</dcterms:created>
  <dc:creator>Helen Zumaeta</dc:creator>
  <dc:description/>
  <dc:language>en-US</dc:language>
  <cp:lastModifiedBy>Helen Zumaeta</cp:lastModifiedBy>
  <dcterms:modified xsi:type="dcterms:W3CDTF">2012-12-17T20:56:04Z</dcterms:modified>
  <cp:revision>5</cp:revision>
  <dc:subject/>
  <dc:title>Me llamo _________              Clase 8im La fecha es el 13 de diciembre del 2012</dc:title>
</cp:coreProperties>
</file>